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91AE-01EE-4AC0-9D17-1B5521B4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3D9E-763B-40E0-9F38-72740F63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DEDD-E492-4DD1-A6E0-E55D06BD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0C1D-1B84-4779-9748-45041080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ABFE-E8F3-45B5-8175-D5D7B851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2312-1881-4CF1-BA39-588A15C5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016C-6E8C-416E-A102-3E2DD9C9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374D-1F34-4A31-9A91-E31A87C6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2443-58BD-4C62-BA16-89D1F3C4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5F67-1AD6-4348-9BE8-EEC79EAA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D731-6789-40AA-8EB4-8B2799DC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AAEE-C5E8-4BE5-9A53-36CFA566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02E6-B6B4-4418-B538-0F0AE1AED852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Surgical dis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898989"/>
                </a:solidFill>
                <a:latin typeface="Calibri"/>
              </a:rPr>
              <a:t>Vasu P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898989"/>
                </a:solidFill>
                <a:latin typeface="Calibri"/>
              </a:rPr>
              <a:t>[</a:t>
            </a:r>
            <a:r>
              <a:rPr b="0" lang="nl-NL" sz="1600" spc="-1" strike="noStrike">
                <a:solidFill>
                  <a:srgbClr val="898989"/>
                </a:solidFill>
                <a:latin typeface="Calibri"/>
              </a:rPr>
              <a:t>VOL. 83-B, NO. 8, NOVEMBER 2001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Inspection of the acetabulum one retractor is impacted above the acetabulum. One retractor hooks on the anterior rim and a</a:t>
            </a:r>
            <a:br>
              <a:rPr sz="1200"/>
            </a:b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 third retractor levers the calcar of the neck against the incisura acetabuli. For inspection of the femoral head no retractors</a:t>
            </a:r>
            <a:br>
              <a:rPr sz="1200"/>
            </a:b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are needed, the knee is lowered and with rotation of the leg (arrows) different surfaces of the head can be visuali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403360" y="1600200"/>
            <a:ext cx="4337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alibri"/>
              </a:rPr>
              <a:t>Co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alibri"/>
              </a:rPr>
              <a:t>1.A partial neurapraxia of the 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sciatic nerve was diagnosed after operation; both resolved within six months without residual sequela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2.Trochanteric fixation failed in three patients, requiring a second ope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3. Heterotopic ossification was seen in 37%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Using an anterior (Smith-Petersen) approach the femoral head can be dislocated safely, but inspection of the acetabulum is limited, unless the tensor fascia lata and gluteus medius are extensively detached from their origin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Anterolateral and direct lateral approaches may allow dislocation of the femoral  head, but again exposure of the acetabulum is difficult and incomplet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With the posterior approach, tenomyotomy of the external rotator muscles is necessary, which interrupts the anastomosis between the inferior gluteal artery and the deep branch of the MFC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Trochanteric osteotomy requires more care in regard to union, since there is no balancing of the force of gluteus medius by vastus lateralis; the myofascial flap approach needs special attention until the resutured soft tissues have heal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Diagram showing the line of trochanteric osteotomy for the trochanteric</a:t>
            </a:r>
            <a:br>
              <a:rPr sz="1200"/>
            </a:b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flip. Proximally, the osteotomy exits just anterior to the most posterior</a:t>
            </a:r>
            <a:br>
              <a:rPr sz="1200"/>
            </a:b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insertion of gluteus medius. Distally, the entire origin of vastus lateralis</a:t>
            </a:r>
            <a:br>
              <a:rPr sz="1200"/>
            </a:b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remains on the trochanteric fragment (GMED, gluteus medius; PI, piriformis;</a:t>
            </a:r>
            <a:br>
              <a:rPr sz="1200"/>
            </a:b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OI, obturator internus; Q, quadratus femoris; VLAT, vastus</a:t>
            </a:r>
            <a:br>
              <a:rPr sz="1200"/>
            </a:b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laterali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882720" y="1600200"/>
            <a:ext cx="7378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Diagram showing that in slight flexion and external rotation of the femur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(arrow) the trochanteric fragment, including the tendon of gluteus minimus,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is flipped over anteriorly. The interval between gluteus minimus and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the tendon of piriformis is then developed and gluteus minimus retracted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superiorly to expose the capsule (GMIN, gluteus minimus; C, capsule;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GMED, gluteus medius; PI, piriformis; OI, obturator internus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353960" y="1600200"/>
            <a:ext cx="643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alibri"/>
              </a:rPr>
              <a:t>Operative techn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500" spc="-1" strike="noStrike">
                <a:solidFill>
                  <a:srgbClr val="000000"/>
                </a:solidFill>
                <a:latin typeface="Calibri"/>
              </a:rPr>
              <a:t>In the lateral decubitus position, a lateral approa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The fascia lata split accordingly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The leg is then internally rotated and the posterior border of gluteus medius identified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No attempt is made to mobilise gluteus medius or to visualise the tendon of piriformi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An incision is made from the posterosuperior edge of the greater trochanter extending distally to th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posterior border of the ridge of vastus laterali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A trochanteric osteotomy with a maximal thickness of about 1.5 cm is made along this line with an oscillating saw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At its proximal limit, the osteotomy should exit just anterior to the most posterior insertion of gluteus mediu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This preserves and protects the profundus branch of the MFCA, which becomes intracapsular at the level of the superior gamellus muscl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e greater trochanteric fragment is mobilised anteriorly with its attached vastus lateral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e most posterior fibres of gluteus medius are also released from the remaining trochanteric ba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e osteotomy is correct when only part of the fibres of the tendon of piriformis has to be released from the trocha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With the leg flexed and externally rotated, vastus lateralis and intermedius are elevated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e inferior border of gluteus minimus is separated from the relaxed piriformis and underlying capsu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e constant anastomosis along the distal border of the piriformis muscle and tendon, is p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Care has to be taken to avoid injury to the sciatic ner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e entire flap, including gluteus minimus, is retracted anteriorly and superiorly to expose the superior caps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is is facilitated by further flexion and external rotation of the hip. The anterior, superior and posterosuperior capsule can now be visualised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alibri"/>
              </a:rPr>
              <a:t>Diagram showing that for the Z-shaped capsulotomy the femur is flexed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Calibri"/>
              </a:rPr>
              <a:t>and externally rotated further (arrows). All external rotators are left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Calibri"/>
              </a:rPr>
              <a:t>intac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477800" y="1600200"/>
            <a:ext cx="6188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Diagram showing that for subluxation and dislocation of the femoral head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the hip is flexed, externally rotated and the leg brought over the front of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the operating table and placed in a sterile ba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88960" y="1600200"/>
            <a:ext cx="796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The anterior dislocation is completed after the ligamentum teres is either torn by  external rotation, or incis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The stump of the ligament remaining on the femoral head may be resected. The foveolar artery, which is frequently patent in the ligamentum teres, is not an important sourc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By manipulating the leg, the surgeon now has 360° access to the acetabulum and hea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For a complete inspection of the acetabulum three retractors are used (Fig. 5). The knee is elevated with an assistant applying axial pressure to bring the femoral head posterior to the acetabulum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No retractors are needed for visualisation of the femoral head, the knee being merely lowered to allow the head to rise out of the surgical wound. For its most posterior aspect a blunt Hohmann retractor around the neck may be useful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The retinaculum protecting the terminal branches of the MFCA to the femoral head is clearly visible on the posterosuperior aspect of the neck as a mobile layer of connective tissu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The labrum is inspected and probed, and the articular surfaces of the femoral head and acetabulum examine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Bleeding of the surfaces of the cancellous bone after trimming osteophytes on the periphery of the head are further signs of satisfactory vascularity.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During the exposure the articular cartilage is constantly irrigated with Ringer lactate sol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Reduction of the hip may easily be accompanied by manual traction on the flexed knee and interna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rotation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The capsule of the hip can be repaired, but not tightened since this may create tension on the retinacular vessels leading to a drop in the perfus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The greater trochanter is reattached using two or three 3.5 mm cortical screws or cerclage wire. When an intertrochanteric osteotomy is undertaken the trochanteric fragment is transfixed by th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4:45:23Z</dcterms:created>
  <dc:creator>Vasu Pai</dc:creator>
  <dc:description/>
  <dc:language>en-US</dc:language>
  <cp:lastModifiedBy>Vasu Pai</cp:lastModifiedBy>
  <dcterms:modified xsi:type="dcterms:W3CDTF">2008-10-06T06:16:08Z</dcterms:modified>
  <cp:revision>5</cp:revision>
  <dc:subject/>
  <dc:title>Slide 1</dc:title>
</cp:coreProperties>
</file>