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3C9-7FF7-4E60-983D-C1E2608B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4AA7-663E-4AA4-9094-E5CDF99E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44E8-4309-4416-A837-CF0BFC77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F621-DB5D-449F-B877-7923B2E4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BAD-846C-4D9B-8C95-FFF45542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D4B0-1DE9-4EA6-86A7-67B836AE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4A3-C34B-451E-8DA8-0E49E457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D983-959E-479A-AFF9-2E895EE7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BB0A-2174-4350-8C45-B4BB6E6D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C64-8A42-4564-9BC4-B524A7FA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182-1099-4E9E-AE31-F6A50D61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4F7B-C01E-4A6D-8645-81F0C359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1509-15CF-4383-AAFC-5A749CC4A1B3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Surgical dis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898989"/>
                </a:solidFill>
                <a:latin typeface="Calibri"/>
              </a:rPr>
              <a:t>Vasu P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898989"/>
                </a:solidFill>
                <a:latin typeface="Calibri"/>
              </a:rPr>
              <a:t>[</a:t>
            </a:r>
            <a:r>
              <a:rPr b="0" lang="nl-NL" sz="1600" spc="-1" strike="noStrike">
                <a:solidFill>
                  <a:srgbClr val="898989"/>
                </a:solidFill>
                <a:latin typeface="Calibri"/>
              </a:rPr>
              <a:t>VOL. 83-B, NO. 8, NOVEMBER 2001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Inspection of the acetabulum one retractor is impacted above the acetabulum. One retractor hooks on the anterior rim and a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 third retractor levers the calcar of the neck against the incisura acetabuli. For inspection of the femoral head no retractors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are needed, the knee is lowered and with rotation of the leg (arrows) different surfaces of the head can be visuali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403360" y="1600200"/>
            <a:ext cx="4337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alibri"/>
              </a:rPr>
              <a:t>Co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alibri"/>
              </a:rPr>
              <a:t>1.A partial neurapraxia of the 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sciatic nerve was diagnosed after operation; both resolved within six months without residual sequela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2.Trochanteric fixation failed in three patients, requiring a second ope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3. Heterotopic ossification was seen in 37%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Using an anterior (Smith-Petersen) approach the femoral head can be dislocated safely, but inspection of the acetabulum is limited, unless the tensor fascia lata and gluteus medius are extensively detached from their origin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Anterolateral and direct lateral approaches may allow dislocation of the femoral  head, but again exposure of the acetabulum is difficult and incomplet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With the posterior approach, tenomyotomy of the external rotator muscles is necessary, which interrupts the anastomosis between the inferior gluteal artery and the deep branch of the MFC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Trochanteric osteotomy requires more care in regard to union, since there is no balancing of the force of gluteus medius by vastus lateralis; the myofascial flap approach needs special attention until the resutured soft tissues have heal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Diagram showing the line of trochanteric osteotomy for the trochanteric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flip. Proximally, the osteotomy exits just anterior to the most posterior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insertion of gluteus medius. Distally, the entire origin of vastus lateralis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remains on the trochanteric fragment (GMED, gluteus medius; PI, piriformis;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OI, obturator internus; Q, quadratus femoris; VLAT, vastus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laterali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882720" y="1600200"/>
            <a:ext cx="7378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Diagram showing that in slight flexion and external rotation of the femur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(arrow) the trochanteric fragment, including the tendon of gluteus minimus,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is flipped over anteriorly. The interval between gluteus minimus and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e tendon of piriformis is then developed and gluteus minimus retracted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superiorly to expose the capsule (GMIN, gluteus minimus; C, capsule;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GMED, gluteus medius; PI, piriformis; OI, obturator internus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353960" y="1600200"/>
            <a:ext cx="643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alibri"/>
              </a:rPr>
              <a:t>Operative techn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500" spc="-1" strike="noStrike">
                <a:solidFill>
                  <a:srgbClr val="000000"/>
                </a:solidFill>
                <a:latin typeface="Calibri"/>
              </a:rPr>
              <a:t>In the lateral decubitus position, a lateral approa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The fascia lata split accordingly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The leg is then internally rotated and the posterior border of gluteus medius identified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No attempt is made to mobilise gluteus medius or to visualise the tendon of piriformi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An incision is made from the posterosuperior edge of the greater trochanter extending distally to th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posterior border of the ridge of vastus laterali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A trochanteric osteotomy with a maximal thickness of about 1.5 cm is made along this line with an oscillating saw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At its proximal limit, the osteotomy should exit just anterior to the most posterior insertion of gluteus mediu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This preserves and protects the profundus branch of the MFCA, which becomes intracapsular at the level of the superior gamellus muscl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e greater trochanteric fragment is mobilised anteriorly with its attached vastus lateral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e most posterior fibres of gluteus medius are also released from the remaining trochanteric ba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e osteotomy is correct when only part of the fibres of the tendon of piriformis has to be released from the trocha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With the leg flexed and externally rotated, vastus lateralis and intermedius are elevated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e inferior border of gluteus minimus is separated from the relaxed piriformis and underlying capsu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e constant anastomosis along the distal border of the piriformis muscle and tendon, is p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Care has to be taken to avoid injury to the sciatic ner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e entire flap, including gluteus minimus, is retracted anteriorly and superiorly to expose the superior caps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is is facilitated by further flexion and external rotation of the hip. The anterior, superior and posterosuperior capsule can now be visualised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alibri"/>
              </a:rPr>
              <a:t>Diagram showing that for the Z-shaped capsulotomy the femur is flexed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Calibri"/>
              </a:rPr>
              <a:t>and externally rotated further (arrows). All external rotators are left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Calibri"/>
              </a:rPr>
              <a:t>intac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477800" y="1600200"/>
            <a:ext cx="618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Diagram showing that for subluxation and dislocation of the femoral head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e hip is flexed, externally rotated and the leg brought over the front of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e operating table and placed in a sterile ba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88960" y="1600200"/>
            <a:ext cx="796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e anterior dislocation is completed after the ligamentum teres is either torn by  external rotation, or incis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e stump of the ligament remaining on the femoral head may be resected. The foveolar artery, which is frequently patent in the ligamentum teres, is not an important sourc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By manipulating the leg, the surgeon now has 360° access to the acetabulum and hea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For a complete inspection of the acetabulum three retractors are used (Fig. 5). The knee is elevated with an assistant applying axial pressure to bring the femoral head posterior to the acetabulum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No retractors are needed for visualisation of the femoral head, the knee being merely lowered to allow the head to rise out of the surgical wound. For its most posterior aspect a blunt Hohmann retractor around the neck may be useful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e retinaculum protecting the terminal branches of the MFCA to the femoral head is clearly visible on the posterosuperior aspect of the neck as a mobile layer of connective tissu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The labrum is inspected and probed, and the articular surfaces of the femoral head and acetabulum examine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Bleeding of the surfaces of the cancellous bone after trimming osteophytes on the periphery of the head are further signs of satisfactory vascularity.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During the exposure the articular cartilage is constantly irrigated with Ringer lactate sol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Reduction of the hip may easily be accompanied by manual traction on the flexed knee and interna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rotation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The capsule of the hip can be repaired, but not tightened since this may create tension on the retinacular vessels leading to a drop in the perfus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The greater trochanter is reattached using two or three 3.5 mm cortical screws or cerclage wire. When an intertrochanteric osteotomy is undertaken the trochanteric fragment is transfixed by th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4:45:23Z</dcterms:created>
  <dc:creator>Vasu Pai</dc:creator>
  <dc:description/>
  <dc:language>en-US</dc:language>
  <cp:lastModifiedBy>Vasu Pai</cp:lastModifiedBy>
  <dcterms:modified xsi:type="dcterms:W3CDTF">2008-10-06T06:16:08Z</dcterms:modified>
  <cp:revision>5</cp:revision>
  <dc:subject/>
  <dc:title>Slide 1</dc:title>
</cp:coreProperties>
</file>