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7D9-77C4-4C0C-9F0F-061CBBCE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6C0-F75C-47F8-B687-73AD558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3AD-1864-4C06-8AA5-360D4D5B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4EF-16BF-41D1-A270-FF1450F6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825-A463-4703-AFBA-085DAA7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2D6-CE6A-4F35-A8D9-22B2874D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1BD-41F8-462A-9D54-B0416F37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782-1493-42C7-AFD5-40C48A7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323-3A81-4E39-8EAE-EC3A584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F30-F32C-4C38-A207-1955869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4D3-9F6E-4329-BBEB-A9ECD9E0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F36-DDCF-4961-AC1D-FFA37FC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527-33B6-46A4-A277-E6BFB73241DE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urgical dis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Vasu P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898989"/>
                </a:solidFill>
                <a:latin typeface="Calibri"/>
              </a:rPr>
              <a:t>[</a:t>
            </a:r>
            <a:r>
              <a:rPr b="0" lang="nl-NL" sz="1600" spc="-1" strike="noStrike">
                <a:solidFill>
                  <a:srgbClr val="898989"/>
                </a:solidFill>
                <a:latin typeface="Calibri"/>
              </a:rPr>
              <a:t>VOL. 83-B, NO. 8, NOVEMBER 200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pection of the acetabulum one retractor is impacted above the acetabulum. One retractor hooks on the anterior rim and a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third retractor levers the calcar of the neck against the incisura acetabuli. For inspection of the femoral head no retractor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re needed, the knee is lowered and with rotation of the leg (arrows) different surfaces of the head can be visuali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03360" y="1600200"/>
            <a:ext cx="433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1.A partial neurapraxia of the 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sciatic nerve was diagnosed after operation; both resolved within six months without residual sequela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.Trochanteric fixation failed in three patients, requiring a second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 Heterotopic ossification was seen in 37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Using an anterior (Smith-Petersen) approach the femoral head can be dislocated safely, but inspection of the acetabulum is limited, unless the tensor fascia lata and gluteus medius are extensively detached from their origi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Anterolateral and direct lateral approaches may allow dislocation of the femoral  head, but again exposure of the acetabulum is difficult and incomple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With the posterior approach, tenomyotomy of the external rotator muscles is necessary, which interrupts the anastomosis between the inferior gluteal artery and the deep branch of the MF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Trochanteric osteotomy requires more care in regard to union, since there is no balancing of the force of gluteus medius by vastus lateralis; the myofascial flap approach needs special attention until the resutured soft tissues have heal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Diagram showing the line of trochanteric osteotomy for the trochanteric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lip. Proximally, the osteotomy exits just anterior to the most posterior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ertion of gluteus medius. Distally, the entire origin of vastus laterali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mains on the trochanteric fragment (GMED, gluteus medius; PI, piriformis;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I, obturator internus; Q, quadratus femoris; VLAT, vastu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later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73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in slight flexion and external rotation of the femur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(arrow) the trochanteric fragment, including the tendon of gluteus minimus,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s flipped over anteriorly. The interval between gluteus minimus an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tendon of piriformis is then developed and gluteus minimus retracte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uperiorly to expose the capsule (GMIN, gluteus minimus; C, capsule;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GMED, gluteus medius; PI, piriformis; OI, obturator internu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Operative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500" spc="-1" strike="noStrike">
                <a:solidFill>
                  <a:srgbClr val="000000"/>
                </a:solidFill>
                <a:latin typeface="Calibri"/>
              </a:rPr>
              <a:t>In the lateral decubitus position, a lateral appro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fascia lata split accordingl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eg is then internally rotated and the posterior border of gluteus medius identifie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No attempt is made to mobilise gluteus medius or to visualise the tendon of piriform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n incision is made from the posterosuperior edge of the greater trochanter extending distally to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posterior border of the ridge of vastus lateral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 trochanteric osteotomy with a maximal thickness of about 1.5 cm is made along this line with an oscillating saw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t its proximal limit, the osteotomy should exit just anterior to the most posterior insertion of gluteus mediu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is preserves and protects the profundus branch of the MFCA, which becomes intracapsular at the level of the superior gamellus musc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greater trochanteric fragment is mobilised anteriorly with its attached vastus late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most posterior fibres of gluteus medius are also released from the remaining trochanteric b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osteotomy is correct when only part of the fibres of the tendon of piriformis has to be released from the trocha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ith the leg flexed and externally rotated, vastus lateralis and intermedius are elevate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inferior border of gluteus minimus is separated from the relaxed piriformis and underlying capsu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constant anastomosis along the distal border of the piriformis muscle and tendon, is p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are has to be taken to avoid injury to the sciatic n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entire flap, including gluteus minimus, is retracted anteriorly and superiorly to expose the superior caps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s is facilitated by further flexion and external rotation of the hip. The anterior, superior and posterosuperior capsule can now be visualise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Diagram showing that for the Z-shaped capsulotomy the femur is flexed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and externally rotated further (arrows). All external rotators are lef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inta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for subluxation and dislocation of the femoral hea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hip is flexed, externally rotated and the leg brought over the front of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operating table and placed in a sterile 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88960" y="1600200"/>
            <a:ext cx="796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anterior dislocation is completed after the ligamentum teres is either torn by  external rotation, or incis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stump of the ligament remaining on the femoral head may be resected. The foveolar artery, which is frequently patent in the ligamentum teres, is not an important sour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By manipulating the leg, the surgeon now has 360° access to the acetabulum and h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For a complete inspection of the acetabulum three retractors are used (Fig. 5). The knee is elevated with an assistant applying axial pressure to bring the femoral head posterior to the acetabulum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No retractors are needed for visualisation of the femoral head, the knee being merely lowered to allow the head to rise out of the surgical wound. For its most posterior aspect a blunt Hohmann retractor around the neck may be usefu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retinaculum protecting the terminal branches of the MFCA to the femoral head is clearly visible on the posterosuperior aspect of the neck as a mobile layer of connective tissu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abrum is inspected and probed, and the articular surfaces of the femoral head and acetabulum examin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Bleeding of the surfaces of the cancellous bone after trimming osteophytes on the periphery of the head are further signs of satisfactory vascularity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During the exposure the articular cartilage is constantly irrigated with Ringer lactate sol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eduction of the hip may easily be accompanied by manual traction on the flexed knee and inter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otatio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capsule of the hip can be repaired, but not tightened since this may create tension on the retinacular vessels leading to a drop in the per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greater trochanter is reattached using two or three 3.5 mm cortical screws or cerclage wire. When an intertrochanteric osteotomy is undertaken the trochanteric fragment is transfixed by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4:45:23Z</dcterms:created>
  <dc:creator>Vasu Pai</dc:creator>
  <dc:description/>
  <dc:language>en-US</dc:language>
  <cp:lastModifiedBy>Vasu Pai</cp:lastModifiedBy>
  <dcterms:modified xsi:type="dcterms:W3CDTF">2008-10-06T06:16:08Z</dcterms:modified>
  <cp:revision>5</cp:revision>
  <dc:subject/>
  <dc:title>Slide 1</dc:title>
</cp:coreProperties>
</file>